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49C4-8101-4723-B4A4-39C68745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320-6D72-4D38-A113-0F526268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4E38-177F-448C-84F4-5786A511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627-8813-44CF-A65F-396C8040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CE6B-083A-4031-A1CD-B788B767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3662-9AEA-45DD-80FB-FCC03FDA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1DFC-CF50-4D6E-B7C7-BC541485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0594-E2D4-4F17-9CD4-BC110537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D9D6-E56C-4B0F-82A5-E441100F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731B-219E-4C1A-8EB4-B23B6FA6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6098-5989-4607-9ADA-97CC8131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2B6-9D92-4CE9-8EBC-3210A39C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CE9B-018B-46F7-AE00-B9EDDD93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96B2-9294-436C-B6B9-7F1A018F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1777-EA26-4D76-B408-375809A3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3DDE-D83E-48A2-8591-B2320328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0429-C2E6-4AC2-9DEE-0883EBB4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D87-AF2C-447D-A9CC-386D1B20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B1B6-6029-46FF-87E1-8B260D50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45E-F4F6-4A78-B8C6-2892B500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03F-2DF8-4F22-A874-D22EE316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E1C-2927-4C5B-BD0B-1DE6EC1F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152-F772-4B96-854C-C8D98DBD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D1F-B00F-4043-ADF4-EED9B103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CD05-3D36-496D-986D-80D90B7D0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342E-8D00-477F-B5DB-5E0E99EB7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Calidad de Servicio</a:t>
            </a:r>
            <a:br>
              <a:rPr sz="54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eues y conexiones 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ce default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s descritas disciplinas de queue (PFIFO, BFIFO, RED, SFQ, PCQ) las cuales están configuradas en “/queue type” son puestas en una interfase. La lista de interfaces esta dada en “/queue interface” y pued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ner una y solo una en cada interf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HTB mencionado antes no es manejado en  “/queue type” y no puede ser explícitamente puesta en una interfase. Hay otros sitios para configurar HTB (“/queue simple” y “/queue tree”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 importante entender que HTB no esta coexistiendo con otra queue en una interface – solamente puede haber un queue y HTB es la preferencial (en caso de que algo este configurado para dicha interface en “/queue simple” y/o “/queue tre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6520" indent="-32040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quetes están siendo clasificados cuando alcanzan el limite de HB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6520" indent="-3204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gunos atributos de las clases de HTB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mit-at – velocidad normal (garantizada o CIR); mientras no es alcanzada, la clase es “ver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x-limit – velocidad maxima (MIR); mientras no es alcanzada, la clase es  “amarill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ty – prioridad de una clase, solamente importa cuando la clase es “ver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04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ando puede ser mandado un paque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orden de prioridad (“1” – primero, “8” – ultimo), satisface todas las clases' “limit-at” (mientras la clase es “verd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108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el parametro “limit-at” es alcanzado (todas las clases son “amarillas”), presta la velocidad no usada desde las clases “padres” si es qyue tienen algo que prestar (si ellas no están en “rojo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funciona HT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clase puede estar en los siguientes estad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reen o verde” – cuando una clase es surtida directamente desde l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yellow o amarilla” – cuando una clase puede pedir algo prestado desde su pa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o rojo” – cuando una clase no puede mandar d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ando una clase se hace “red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l promedio de velocidad es mas bajo que el “burst-threshold” por el tiempo dado en “burst-time”, una clase se hace “red” cuando el “burst-limit” es alcan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l promedio de velocidad es mas alto que “burst-threshold” por rl tiempo dado en  “burst-time”, una clase se hace “red” cuando “max-limit” es alcan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TB en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050920" y="1268280"/>
          <a:ext cx="46134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46134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0040" indent="-31392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simples son la manera mas fácil de controlar las velocidades de los clientes. Ellas permiten manejar rx, tx y velocidades agregadas justo solo con una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040" indent="-3139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HTB hierarchy están localizadas justamente debajo del “root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040" indent="-3139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ltros de queues simple son ejecutados completamente por el Queue HTB en las interfaces “global-out” (queue 'direct') y “global-in” ('reverse' queue). Los filtros “ven” las direcciones IP de los paquetes como si aparecieran en la cadena “forward”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Queue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simples son configuradas en “/queue simp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piedades Configurables incl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ón por direccion IP destino (or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del cliente (puedes usar “all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po d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 settings para upload/download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 settings para velocidad  agregada (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PP y HotSpot hacen queues simples dina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queue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nte limitar la velocidad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nsmisión (upload) para tu PC a 64Kbit/s y recepcion (download) – a 128Kbit/s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queue simple add target=X.X.X.X/32 max-limit=65536/1310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hora, para probarlo , podemos usar una herramienta de medición de ancho de banda para medir la veloc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traves de tu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l gateway. Por favor prueba en ambas direcciones simultáneamente. El protocolo de default es UDP. Trata tambien con TCP y compara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isticas de Queue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4535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125960" cy="45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boles de 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3280" indent="-31716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ueues de Árbol son mas sofisticadas maneras de manejar el trafico. Ellas permiten construir “hierarchy de clases” a la med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iltros de queues de arbo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n aplicadas en la interface especificada. Los filtros son solamente marcas que el firewall hace a los flujos de paquetes en la opción “mangle” , los filtros “ven” las direcciones de los paquetes como si arribaran al rute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filtros en las interfaces “global-in” and “global-out” son ejecutadas antes que los filtros simples. Se hace notar que los queues simples estan separados en 2 partes – 'direct' (en “global-out”) y 'reverse' (en “global-in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3280" indent="-31716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hace configuraciones con doble queueing (ej., en ambas interfaces de queue virtuales), considera que no podrás tener mas que el mínimo de las limitaciones ac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de queue de ár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s de árbol son configuradas en “/queue tre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piedades configurables incluy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cado de flujo de tra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ent-class o interfase outgoing (incluyendo las interfaces virtuales “global-in” and “global-ou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po d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de “limit-at”, “max-limit”, “priority” y bu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trabaja la limi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imposible influenciar los datos recibidos de manera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única vía de controlar la velocidad es tirando paqu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tocolo TCP esta “adaptando” un control efectivo de velo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s de marcado de flu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ca trafico ‘especifico’ (test de ancho de banda 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mangle add src-address=:2000 protocol=tcp action=passthrough mark-flow=down_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ca todo el trafico entrante, TODO ‘no especific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mangle add in-interface=office-5 action=passthrough flow=!down_bt mark-flow=down_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arbol de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ya a Queue de árbol y añada un queue para el total de trafico para una interface d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hora anada 2 sub-queues para diferentes tipos de flujo de trafico (vea la siguiente diapositi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140360" y="1413000"/>
            <a:ext cx="4713120" cy="47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48360" cy="593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ísticas de queu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trafico ‘especial’ corriendo y el trafico ’non-specific’ usa todo el ancho de banda asignado de 256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806436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adísticas de queu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ués de ejecutar el test de ancho de banda, ambos tráficos  ‘especial’ y ‘no especial’ 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ncurrentemente usando el ancho de banda asig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8459640" cy="236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deberías usar queues simples  y cuando son necesarias las queues de árbol? 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des usar queues simples para limitar trafico marcado por el mangle del firew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urst de Tra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a queue de “burst” es una manera de ir mas alla del limite del queue por un cierto periodo de tiempo y paqu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arametro ‘burst-limit’ es el pico permitido sobre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velocidad puede ser mas alta que el parametro dado en ‘burst-threshold’ por el tiempo dado en ‘burst-tim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pues de exceder el ‘burst-time’, el queue es colapsado al valor ‘limit-at’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de árbol y source 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stas usando enmascaramiento (source-NATting) para ‘esconder' tu red local detrás del ruteador , 2 acciones están hech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u upload , NAT de origen esta hecho cuando los paquetes están abandonando el rute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u download, reverse-source NAT (NAT de destino) eta hecho cuando los paquetes están entrando al ruteador, justo después del m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r tanto, tus reglas de mangle no “ven” la direccion IP destino correcta para el trafico de download. La solucion a este dilema es marcar la conexión cuando es establecida y después marcar los paquetes (de upload y download, para los cuales ahora no necesitamos una dirección) que corresponden a dicha conexión, para poder usar ese mark en los queues de arb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71720" y="1112760"/>
            <a:ext cx="7200720" cy="522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ues de Árbol con enmascar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a a un host hacer upload de trafico UDP a 128Kbit/s y download de 256Kbit/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ip firewall mangle add src-address=X.X.X.X/32 protocol=udp mark-connection=ud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ip firewall mangle add connection=udp mark-flow=p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queue tree add parent=global-out flow=pc max-limit=13107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/queue tree add parent=global-in flow=pc max-limit=2621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91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Haga la prueba de ancho de banda de trafico UDP para ver como trabaja la limitació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mitación vs.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no solamente es limitació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es un intento de usar los recursos existentes racionalmente (no es necesario utilizar todo el ancho de banda dispon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oS 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cea y prioriza el flujo de datos, asegurando la mejor velocidad posible y previniendo el “monopolio” del canal de datos. Esta es la razón del porque se llama “Quality of Serv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er Connection Queue (PCQ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 es usado para ecualizar a cada usuario en particular o cada conexión en part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usar PCQ, un nuevo tipo de Queue debe ser añadido con el argumento ‘kind=pcq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fique los ‘pcq-classifier’ y ‘pcq-rate’ dese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elocidad de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e  PCQ Rate a ‘0’, si no quieres limitar subqueues (ejemplo, que puedan usar el ancho de banda hasta el ‘max-limit’, si hay disponibilida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4392720" cy="2376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572000" y="3933720"/>
            <a:ext cx="439272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el ‘limit-at’ y ‘max-limit’ estan configurados en ‘0’, entonces las subqueues pueden tomar hasta el total de ancho de banda disponible para el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47660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CQ en Accion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2492280"/>
            <a:ext cx="2160720" cy="3384720"/>
          </a:xfrm>
          <a:prstGeom prst="rightArrow">
            <a:avLst>
              <a:gd name="adj1" fmla="val 86019"/>
              <a:gd name="adj2" fmla="val 1263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=pcq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limit=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19640" y="479592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19640" y="407664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19640" y="335592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9640" y="2637000"/>
            <a:ext cx="1295640" cy="938160"/>
          </a:xfrm>
          <a:prstGeom prst="rightArrow">
            <a:avLst>
              <a:gd name="adj1" fmla="val 73565"/>
              <a:gd name="adj2" fmla="val 1623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-rate=128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20000" y="522756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20000" y="479592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20000" y="436392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20000" y="3932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20000" y="3500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20000" y="306864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263700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48000" y="4795920"/>
            <a:ext cx="1295280" cy="938160"/>
          </a:xfrm>
          <a:prstGeom prst="rightArrow">
            <a:avLst>
              <a:gd name="adj1" fmla="val 73565"/>
              <a:gd name="adj2" fmla="val 1622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48000" y="4076640"/>
            <a:ext cx="1295280" cy="938160"/>
          </a:xfrm>
          <a:prstGeom prst="rightArrow">
            <a:avLst>
              <a:gd name="adj1" fmla="val 73565"/>
              <a:gd name="adj2" fmla="val 1622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9640" y="220500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1028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CQ en Accio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2492280"/>
            <a:ext cx="2160720" cy="3384720"/>
          </a:xfrm>
          <a:prstGeom prst="rightArrow">
            <a:avLst>
              <a:gd name="adj1" fmla="val 86019"/>
              <a:gd name="adj2" fmla="val 1263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=pcq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-limit=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cq-rate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20000" y="522756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20000" y="479592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0000" y="436392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3932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20000" y="350028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20000" y="3068640"/>
            <a:ext cx="1297080" cy="506520"/>
          </a:xfrm>
          <a:prstGeom prst="rightArrow">
            <a:avLst>
              <a:gd name="adj1" fmla="val 73565"/>
              <a:gd name="adj2" fmla="val 30101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20000" y="2637000"/>
            <a:ext cx="1297080" cy="506160"/>
          </a:xfrm>
          <a:prstGeom prst="rightArrow">
            <a:avLst>
              <a:gd name="adj1" fmla="val 73565"/>
              <a:gd name="adj2" fmla="val 3012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48000" y="2565360"/>
            <a:ext cx="1295280" cy="3240000"/>
          </a:xfrm>
          <a:prstGeom prst="rightArrow">
            <a:avLst>
              <a:gd name="adj1" fmla="val 92417"/>
              <a:gd name="adj2" fmla="val 1666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19640" y="2205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‘usuari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19810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4148280"/>
            <a:ext cx="1295280" cy="1585800"/>
          </a:xfrm>
          <a:prstGeom prst="rightArrow">
            <a:avLst>
              <a:gd name="adj1" fmla="val 90481"/>
              <a:gd name="adj2" fmla="val 1078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81480" y="20574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‘usuario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8360" y="2637000"/>
            <a:ext cx="1295280" cy="1585800"/>
          </a:xfrm>
          <a:prstGeom prst="rightArrow">
            <a:avLst>
              <a:gd name="adj1" fmla="val 90481"/>
              <a:gd name="adj2" fmla="val 1078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rcando trafico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379760" cy="43927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4427640" cy="44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ategia para trafico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vez que el trafico P2P es marcado, tu puedes apl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ltros de firewall para tirar todo el trafico P2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 de ru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rle Queues para limitar el tra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Shaping es la mas efectiva via de tratar con este tipo de tra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ga Shape de todo este trafico bajado a un limite bajo o muy bajo, limítelo,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ga Shape para cada usuario con limites diferen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le a cada usuario cierta cantidad de ancho de banda para trafico P2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aciendo Shaping de P2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380120" cy="43927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formación acerca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cumentacion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tp://www.mikrotik.com/documentatio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favor v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 RouterOS™ How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nline Reference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cipios básicos de Q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oS es implementado por un mecanismo de queueing. El Queuing maneja la manera en que los paquetes estan esperando por su turno para salir de l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Queuing siempre trabaja sobre la interface de salida. “global-in” (asi como “global-out”) es una interface virtual por si misma, por tanto es la manera en el como puede limitar el trafico entrando al rute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olamente puede haber una disciplina de queue por cada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107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ciplinas de queueing controlan el orden y velocidad de los paquetes saliendo a traves de la interface, adicionalmente define cuales paquetes deben esperar por su turno para ser enviados fuera y cuales deben ser descarg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ipos de Disciplinas de 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ciplinas de Queuing pueden ser clasificadas dentro de 2 grupos por su influencia en el flujo de datos – schedulers y sh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cheduler reordena el flujo de paquetes. Este tipo de disciplinas limitan el numero de paquetes esperando, no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haper controlan la velocidad del flujo de datos. Adicionalmente pueden hacer un trabajo pro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neras de hacer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chedul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F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 Sha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s configurar las propiedades de queue en “/queue typ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FI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FIFO y BFIFO son del tipo FIFO (First-in-First-out) queues con un buffer pequ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ciplina de queuing FIFO no cambian el orden del paquete , ellos justamente acumulan los paquetes hasta que un limite definido es sobrepasado. Cuando la interfase va a mandar un paquete el queue FIFO regresa el menos reciente (el que arribó prim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 PFIFO es limitada por numero de paqu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eue BFIFO es limitada por conteo de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esta atento por Random Early Detect (tambien conocido como Random Early Dro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D no limita la velocidad, pero cuando el canal esta lleno, lo hace indirectamente ecualizando las velocidades de los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una longitud promedio de queue “red-min-threshold” , RED empieza a “tirar o drop” paquetes aleatoriamente con un incremento lineal de la probabilidad hasta que el promedio de la longitud del queue alcanza el tamano “red-max-threshold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550"/>
              </a:spcBef>
              <a:buClr>
                <a:srgbClr val="0066ff"/>
              </a:buClr>
              <a:buSzPct val="98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e es el promedio del tamano del queue es calculado, por tanto el tamano efectivo del queue a un momento debería ser mas alto que el “red-max-threshold”. Es posible especificar un limite para el tamano del queue con la propiedad “red-limi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goritmo P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23640">
              <a:lnSpc>
                <a:spcPct val="93000"/>
              </a:lnSpc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esta atenta por Per Connection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es una mejoría de la version , la cual permite escoger clasificadores (uno o mas de src-address, dst-address, src-port, dst-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CQ no  limita el numero de subflujos. Puedes controlar cuantos paquetes son guardados por el queue con el parámetro “pcq-lim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23640">
              <a:spcBef>
                <a:spcPts val="700"/>
              </a:spcBef>
              <a:buClr>
                <a:srgbClr val="0066ff"/>
              </a:buClr>
              <a:buSzPct val="84000"/>
              <a:buFont typeface="Wingdings" charset="2"/>
              <a:buChar char="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812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limitar la máxima velocidad dada a cada uno de los subflujos ac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3:11:03Z</dcterms:created>
  <dc:creator>Arnis</dc:creator>
  <dc:description/>
  <dc:language>en-US</dc:language>
  <cp:lastModifiedBy>Alfonso Urbina Araux</cp:lastModifiedBy>
  <dcterms:modified xsi:type="dcterms:W3CDTF">2005-09-24T16:08:31Z</dcterms:modified>
  <cp:revision>60</cp:revision>
  <dc:subject/>
  <dc:title>Quality of Service</dc:title>
</cp:coreProperties>
</file>